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1F0-8453-4663-A517-17023BC8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876-99AA-4602-B242-95829A44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F6B-5C34-4020-9A5B-EE366783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7CE-F9AF-47E6-8F9F-77012121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4E1F-6435-4FA7-8FC6-F82091BD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702E-F895-4D5D-BDB1-2FBAFCBC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CF76-BB7C-4486-BB3E-D3C31755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6DA2-F5E3-431F-92F9-613487ED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6414-F0BF-4B60-8B21-A3D3D18A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A679-724C-46A5-8A55-AB8A8F7A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0C5A-41FC-4763-B327-560985C7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2AD-6F26-4061-A408-B5C5ACE7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D216-E84D-4736-94E9-049A5DC9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633C-CAA8-4D47-A15A-A9CE854B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BF7C-AF1F-40DF-AE5B-ECD293F5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6C08-C8B7-4BE0-9E40-2FC3EDEE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B9F2-C79B-426A-8C80-12BE0B57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A31-8556-41EA-B2A7-164ADFA7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CBB-EEA7-479A-BB53-A8884AF6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45C-EB42-4973-B8F9-FA9E0712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027-BCD3-43C0-907A-8052C0FC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43D-9892-40E7-9D22-D1259CA7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2A8-191C-455E-BCC8-2646BCF7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0DF-950B-4CB0-8BBA-5F670D44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BAEA-F5E6-4E9E-9568-E9DEFBEDF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C51F-6316-4C95-BA69-6541547E499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DFKai-SB"/>
              </a:rPr>
              <a:t>Rizwan baig</a:t>
            </a:r>
            <a:br>
              <a:rPr sz="4800"/>
            </a:b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6946920" cy="1981440"/>
          </a:xfrm>
          <a:prstGeom prst="rect">
            <a:avLst/>
          </a:prstGeom>
          <a:noFill/>
          <a:ln cap="sq"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Country         :: Pakis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Me in class    :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9th 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My interest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:: volyball, indian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imes New Roman"/>
              </a:rPr>
              <a:t>My favourite subject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: hist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724280"/>
            <a:ext cx="6858000" cy="1015920"/>
          </a:xfrm>
          <a:prstGeom prst="rect">
            <a:avLst/>
          </a:prstGeom>
          <a:solidFill>
            <a:srgbClr val="9966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akistan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1451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4:08Z</dcterms:modified>
  <cp:revision>20</cp:revision>
  <dc:subject/>
  <dc:title>MR. HAROON </dc:title>
</cp:coreProperties>
</file>